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93F-42E6-41EC-851A-7509F45B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D81-DA7B-487D-8617-5F968088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7F1-43F6-4B0E-A1ED-9A2A224A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1C0-BF1E-49E8-A941-700D4FED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FDD9-2943-4E4A-B331-EE39B4F3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98A6-157F-4441-88E6-C59E1CC9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D535-6FEB-4FC4-9365-A0AA632A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8307-836D-4E4A-BE84-4888C241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5B2E-1EEA-4A17-8FEA-9A650EF7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7170-FBB0-464B-ACE7-C0525CEA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6746-FE60-4858-83D9-D9898C42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492-2451-48B6-B692-04EB28ED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934F-45BF-4868-85DA-F87380F9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FD57-AC09-46E6-9971-D3230E7C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0AEE-A5D4-4856-9CC1-EEE26D75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0D80-7217-4953-9F2F-207C01E9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9833-0F3B-4B34-B1FE-7BF5F743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819-8A98-460B-BA42-44293B56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028-EB03-4A13-B4E9-5BFEE857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9E9-5EF0-470D-8F5A-F2B9E634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5D0-A9F9-4AC9-978F-2D2197E3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C21-C709-4EEF-A523-947D384A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F74-6431-4BB1-A409-909B6EB3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B6C-1245-40C5-9585-528A9EBA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DAEA-5F88-44A6-A335-A5B168208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29714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3042-4024-4CE3-8D94-7034CA8F1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680" y="29714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“</a:t>
            </a: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Sir, We Would See Jesus”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971440" y="41144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Quarter 9, Lesson 4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ages 16-20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uke 2:41-52; Matt. 3:1-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The Beginning of Jesus’ Ministry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e5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Century Gothic"/>
              </a:rPr>
              <a:t>The Baptism of Jesus – Matt.3:13-17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Jesus is now 30 years ol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John knew Jesus was p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Hesitation to Baptize Jesu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Obeying Jesus’ reques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To fulfill all righteousnes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The Divine Seal of Approv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After Jesus’ baptis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The Spirit came down in dove for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The voice: “This is My Son…..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Jesus was immersed in the Jordan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pic>
        <p:nvPicPr>
          <p:cNvPr id="112" name="" descr="Israel: The Jordan River Below Kinneret"/>
          <p:cNvPicPr/>
          <p:nvPr/>
        </p:nvPicPr>
        <p:blipFill>
          <a:blip r:embed="rId2"/>
          <a:stretch/>
        </p:blipFill>
        <p:spPr>
          <a:xfrm>
            <a:off x="533520" y="1447920"/>
            <a:ext cx="3681360" cy="2417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Jordan River, baptism, jesus, IPIX, Bible,  free picture"/>
          <p:cNvPicPr/>
          <p:nvPr/>
        </p:nvPicPr>
        <p:blipFill>
          <a:blip r:embed="rId3"/>
          <a:stretch/>
        </p:blipFill>
        <p:spPr>
          <a:xfrm>
            <a:off x="4267080" y="1447920"/>
            <a:ext cx="4267440" cy="2852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990720" y="4419720"/>
            <a:ext cx="3076560" cy="16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ke note tha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esus went to th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ater. The wa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as not brough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o Him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05520" y="4343400"/>
            <a:ext cx="2438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e went dow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o the water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e came u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ut of th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ater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118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53040" y="1219320"/>
            <a:ext cx="3990960" cy="5132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172200" y="152280"/>
            <a:ext cx="1509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der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atell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529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5081760" cy="387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47920" y="3962520"/>
            <a:ext cx="304560" cy="228600"/>
          </a:xfrm>
          <a:prstGeom prst="ellipse">
            <a:avLst/>
          </a:prstGeom>
          <a:noFill/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2590920"/>
            <a:ext cx="381240" cy="304560"/>
          </a:xfrm>
          <a:prstGeom prst="ellipse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52480" y="2819520"/>
            <a:ext cx="2286000" cy="1218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657600" y="35575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848720" y="3505320"/>
            <a:ext cx="1295280" cy="33526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924680" y="4267080"/>
            <a:ext cx="10479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sus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 the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mple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t age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Jesus in the Temple at Age 12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Luke 2:41-5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The “Bar Mizvah” age of accepting accountability to Go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His heart was at God’s hous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His parents did not realize how connected Jesus w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They lost their connection to Jesu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They returned to find him “in His Father’s House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He remained subject to God and His par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Growing up in Nazareth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Luke 2:5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He grows i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Height (physical maturit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Wisdom (mental maturit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Favor with God (spiritual maturit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Favor with man (social maturit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The Beginning of John’s Ministry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0e5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Century Gothic"/>
              </a:rPr>
              <a:t>Why John Came – Matt.3:1-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Isaiah foretold his mission (Isa.40:3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The Jews needed to rep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Repentance is necessary to prepare for the kingdom of Go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People needed to get ready to receive the arrival of the K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The Beginning of John’s Ministry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Century Gothic"/>
              </a:rPr>
              <a:t>Why John Came – Matt.3:1-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Century Gothic"/>
              </a:rPr>
              <a:t>John’s Work – Matt.3:4-1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Preach what the religious leaders had been unwilling to preac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Alert people to the religious poison that might hinder acceptance of God’s trut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Draw people out from under poisonous doctrin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Get people prepared for the k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The Beginning of John’s Ministry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Century Gothic"/>
              </a:rPr>
              <a:t>Why John Came – Matt.3:1-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Century Gothic"/>
              </a:rPr>
              <a:t>John’s Work – Matt.3:4-1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Baptism of repenta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Was “for remission of sins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This looked forward to the ultimate sacrifice that would provide the basis of all forgiveness past and pres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34120" y="0"/>
            <a:ext cx="380988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10080" y="380880"/>
            <a:ext cx="3495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cate the following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5880" y="1447920"/>
            <a:ext cx="210528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erusal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ill coun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f Jude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thleh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ordan Riv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6:20:51Z</dcterms:created>
  <dc:creator>Terry W. Benton</dc:creator>
  <dc:description/>
  <dc:language>en-US</dc:language>
  <cp:lastModifiedBy>Frank D Vines</cp:lastModifiedBy>
  <dcterms:modified xsi:type="dcterms:W3CDTF">2006-07-18T05:36:07Z</dcterms:modified>
  <cp:revision>3</cp:revision>
  <dc:subject/>
  <dc:title>“Sir, We Would See Jesus”</dc:title>
</cp:coreProperties>
</file>